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93CF-58E9-441F-89B0-E075F84BA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640B-64BD-4B41-B0CB-368D723B6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8BF1-EF8D-49ED-A53A-01AA3B42D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2FDE-DBA6-4317-BFE2-FC9D957ED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9BF5-DAC4-49AA-A4C6-6967C5BF8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19B0-EF52-447D-A034-87C995AA3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5B2F-E615-4DA6-BAF9-3A7EE0166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D21F-7723-4F7D-AA89-BEE88B028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D4F9-AE23-4C33-A119-557C24304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CD42-9B8A-4E86-BFE8-85E85F95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77A0-9A22-444A-9F32-9D089B32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27BE-96F5-40DB-BF13-9CF23376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9040680"/>
            <a:ext cx="411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9160F-9154-4A23-B955-E1F265A6AA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1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2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3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4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5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6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9T21:21:17Z</dcterms:created>
  <dc:creator>Vello Vilbas</dc:creator>
  <dc:description/>
  <dc:language>en-US</dc:language>
  <cp:lastModifiedBy>Vello Vilbas</cp:lastModifiedBy>
  <dcterms:modified xsi:type="dcterms:W3CDTF">2008-12-19T21:21:24Z</dcterms:modified>
  <cp:revision>1</cp:revision>
  <dc:subject/>
  <dc:title>Slide 1</dc:title>
</cp:coreProperties>
</file>