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FD4-C930-477B-B6F7-CC8A384AC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BDED-A8B1-466D-AF25-42F2741BE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3643-773D-47E5-B127-782B4E2F1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764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564760" y="227628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088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764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564760" y="5637960"/>
            <a:ext cx="376812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158D-11DC-4045-8CD0-4A56EC95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DF92-AD7D-462F-9A8E-33D50075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60D0-B7D3-483C-9A2D-83C7D000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9563-7214-4690-A965-E1FA9939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5B85-EE76-4395-99E1-288CBF15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0880" y="390240"/>
            <a:ext cx="11702880" cy="75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2732-E7E1-4F5B-8771-9544825C0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7117-C4A1-4AB3-ACC9-94EF5DC48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647400" y="563796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299-076E-4873-BD13-F1CC73E0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088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647400" y="2276280"/>
            <a:ext cx="57106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0880" y="5637960"/>
            <a:ext cx="11702880" cy="30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A26A-CA3E-4F08-9BBE-E3B26D86D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0880" y="390240"/>
            <a:ext cx="11702880" cy="16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0880" y="2276280"/>
            <a:ext cx="11702880" cy="64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052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43120" y="9040680"/>
            <a:ext cx="411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319680" y="9040680"/>
            <a:ext cx="303372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2A99E-18D2-4FC6-A68D-E52FA202BD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1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2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3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4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5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6.bmp"/>
          <p:cNvPicPr/>
          <p:nvPr/>
        </p:nvPicPr>
        <p:blipFill>
          <a:blip r:embed="rId1"/>
          <a:stretch/>
        </p:blipFill>
        <p:spPr>
          <a:xfrm>
            <a:off x="0" y="0"/>
            <a:ext cx="13004640" cy="975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9T21:21:17Z</dcterms:created>
  <dc:creator>Vello Vilbas</dc:creator>
  <dc:description/>
  <dc:language>en-US</dc:language>
  <cp:lastModifiedBy>Vello Vilbas</cp:lastModifiedBy>
  <dcterms:modified xsi:type="dcterms:W3CDTF">2008-12-19T21:21:24Z</dcterms:modified>
  <cp:revision>1</cp:revision>
  <dc:subject/>
  <dc:title>Slide 1</dc:title>
</cp:coreProperties>
</file>