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037-D147-4AAF-AAA9-FE4A4AD0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780-2A4A-42F1-8293-4C978C52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F82-F3F3-483F-886E-5BABD6D1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E76-2005-495C-A90F-2F70B091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315-249D-48A2-9AC0-E7ADA361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E26-9BAB-4FE9-9361-0298F8FC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DA3-C84D-4D00-AFB2-9137167B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2D0-1D14-42DD-9B22-E55199CB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6B1-4F88-4D13-A3DB-FDCDAE9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BDC-8809-4B76-B441-4CA75572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208-3A2E-442B-B362-44F3713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408-69D8-47ED-B08B-45B6EA3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594B-BAD0-44B1-8FA8-AD2CC476A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21:21:17Z</dcterms:created>
  <dc:creator>Vello Vilbas</dc:creator>
  <dc:description/>
  <dc:language>en-US</dc:language>
  <cp:lastModifiedBy>Vello Vilbas</cp:lastModifiedBy>
  <dcterms:modified xsi:type="dcterms:W3CDTF">2008-12-19T21:21:24Z</dcterms:modified>
  <cp:revision>1</cp:revision>
  <dc:subject/>
  <dc:title>Slide 1</dc:title>
</cp:coreProperties>
</file>