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AA5B-FBC9-4ECA-B62E-D9256C876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13BF-2B7F-4C7D-B320-D501261CF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0E4-BDCF-419A-9A52-DA8976C5D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D83-B33A-46CB-833D-3A5E26C84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D661-85F4-4A12-9068-8ECAB52B0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77F0-B276-4148-A7B0-9DDCD49F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9BE8F-9406-4DD6-98E6-6FAB97F74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E90B-4AD8-4128-8E2A-C592147D6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B17F-2949-4F2A-8C1B-62C3E72C6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8D40-6014-46B6-B99D-30119107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A2AE-5E31-4762-8880-3C008DF2A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4491-2835-44AC-AEE8-1D399D708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4390-690F-4575-89DF-49F48B12B1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21:21:17Z</dcterms:created>
  <dc:creator>Vello Vilbas</dc:creator>
  <dc:description/>
  <dc:language>en-US</dc:language>
  <cp:lastModifiedBy>Vello Vilbas</cp:lastModifiedBy>
  <dcterms:modified xsi:type="dcterms:W3CDTF">2008-12-19T21:21:24Z</dcterms:modified>
  <cp:revision>1</cp:revision>
  <dc:subject/>
  <dc:title>Slide 1</dc:title>
</cp:coreProperties>
</file>