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DC45-74FF-4827-995B-12C0CEB1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14F2-7308-48E2-94B2-30724325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4112-83A2-4578-9DF4-58DA00DD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4EB10-D6BF-4E2B-8391-4A8D7131B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DD3E-320C-4540-B984-4AA11C0D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A91C-0AA4-424B-B9A2-059B7868E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EB9B-07FB-46B5-8127-6BA511DB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F5DD-259B-4F8F-9A9E-74B5CBBD2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33A6-ABD7-4267-B9E9-833102490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60FE-FD7B-43EE-8B6F-ECB369A5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C4B-D334-46F7-B347-FAEEC3E7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1AC49-E3BA-44D0-B277-4485A247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BC503-BEA8-4C16-84DC-062E86766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1T17:22:25Z</dcterms:created>
  <dc:creator>Vello Vilbas</dc:creator>
  <dc:description/>
  <dc:language>en-US</dc:language>
  <cp:lastModifiedBy>Vello Vilbas</cp:lastModifiedBy>
  <dcterms:modified xsi:type="dcterms:W3CDTF">2008-12-11T17:23:28Z</dcterms:modified>
  <cp:revision>1</cp:revision>
  <dc:subject/>
  <dc:title>Slide 1</dc:title>
</cp:coreProperties>
</file>