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D3C-5AD7-4F41-A04D-3119B35A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586-0FD8-4547-B6E8-B5B727B5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5FC-70DE-4C65-94B7-5649057A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13C-B6CC-404B-98E8-29AA00C2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689-6BCD-4797-8BBE-B8087020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887-C7B0-4928-B6EA-B71E5AC3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396-EA2A-4F3A-80CB-F1D18F5A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59F-9298-4229-921A-C63DEA42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441-B4CB-47C8-A55D-FED549C7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E46-C4D8-4D60-AF54-0A66F0D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674-B655-4B23-9BC7-681BECD4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7B9-EE3A-442C-B601-2F446EA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B066-8B6F-48C6-AACD-18F8FB0E3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7:22:25Z</dcterms:created>
  <dc:creator>Vello Vilbas</dc:creator>
  <dc:description/>
  <dc:language>en-US</dc:language>
  <cp:lastModifiedBy>Vello Vilbas</cp:lastModifiedBy>
  <dcterms:modified xsi:type="dcterms:W3CDTF">2008-12-11T17:23:28Z</dcterms:modified>
  <cp:revision>1</cp:revision>
  <dc:subject/>
  <dc:title>Slide 1</dc:title>
</cp:coreProperties>
</file>