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442-9B5C-467A-A6CC-99A83F63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38F-CB2A-4288-8C72-B14380E6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054-3EC2-4E56-8F34-D72F71AE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A8E-777D-48A4-909A-F2DF57BA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10A-9F69-4486-8E91-71522809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F41-1EE1-4FE0-9050-3FA72901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1E0-0162-48BC-9655-77C18049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C77-D05D-4D02-91AC-80B6BCFD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5C5-A63D-42A8-8437-8CDE9344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6FD-A704-465E-8FA7-C608761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9D9-5BA3-402D-A16E-3C40580C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448-8B57-4692-AA70-B212AC16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3F55-2A31-459A-A42A-DB4FFF62A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7:22:25Z</dcterms:created>
  <dc:creator>Vello Vilbas</dc:creator>
  <dc:description/>
  <dc:language>en-US</dc:language>
  <cp:lastModifiedBy>Vello Vilbas</cp:lastModifiedBy>
  <dcterms:modified xsi:type="dcterms:W3CDTF">2008-12-11T17:23:28Z</dcterms:modified>
  <cp:revision>1</cp:revision>
  <dc:subject/>
  <dc:title>Slide 1</dc:title>
</cp:coreProperties>
</file>