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D30BB-FE4D-4C30-AB65-7434CBED4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851FE-C6F6-4182-B414-6C18AB725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7A2A-146D-4D2D-871F-061BE9A3F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DA41-DD5A-4E96-BB50-D78C2EE80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E787-B000-42A6-AA12-A38703946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5845-4ADF-42D1-98CB-67A81DF01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FE60-798C-4445-A8D0-06C95A120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DA79-0F0F-434A-A7AE-46FBC9CEA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7E40-FFFD-4DD9-8457-AB5B3B008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3883-6CAB-4BC8-A001-315508AB7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5020D-E5B5-48EC-B0D1-57E8D7688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414D-27EC-40A4-9C32-6D86F84E9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9040680"/>
            <a:ext cx="411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3F7B2-3152-4C2E-A90D-4C8BCA56A3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1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2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3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4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5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6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1T17:22:25Z</dcterms:created>
  <dc:creator>Vello Vilbas</dc:creator>
  <dc:description/>
  <dc:language>en-US</dc:language>
  <cp:lastModifiedBy>Vello Vilbas</cp:lastModifiedBy>
  <dcterms:modified xsi:type="dcterms:W3CDTF">2008-12-11T17:23:28Z</dcterms:modified>
  <cp:revision>1</cp:revision>
  <dc:subject/>
  <dc:title>Slide 1</dc:title>
</cp:coreProperties>
</file>